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387-181A-4723-A004-76D18661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AD90-CE29-4595-972D-D090FA5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F6C-F9A6-4675-8BAE-EA147965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5C4-1484-4EC3-81A7-A17E465E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DFD-CDE8-47C2-BFF5-76065C6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58B-F60D-419C-8F6E-24E0323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BA4-C1A5-4DC5-877A-085E068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631-C1A2-4882-8762-7C41B50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1D8-8457-4485-90D6-DC865C7C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F78-FCCB-48C8-A26A-D6DBE82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746-60DB-401B-B5B3-A6DA0A8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C6B-D725-4927-8990-776D53C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20E4-7CFC-44F3-95D1-AA69AA302B7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17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ΚΑΤΑΝΟΜΗ ΤΩΝ ΟΜΑΔ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1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Ιστορία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έλευσ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αγενάς Δημήτρ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ριοφύλη Χαρ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ούκας Φίλιππο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Νότσικα Χρύσ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ιαμαλέκα Ευτυχί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Καλλιτέχνες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χνη ή Βανδαλισμό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εμιρτζόγλου Ιωάνν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ρβέλης Νίκο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σσελούρη Ιωάνν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οσκινάς Κώστα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πάλλας Δημήτρ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Οικονομία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ασδέκη Γεωργ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ήτα Βασιλ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υμεωνίδης Άγγε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Θεματολογία-Είδη-4 στοιχεία-Νομιμότητα-Νομοθεσ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έρμηγκα Φωτεινή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πότσολος Χρήστ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άνου Χρύσ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απαδημητρίου Κώστ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ρίντζης Παναγιώτ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44:17Z</dcterms:created>
  <dc:creator>user02</dc:creator>
  <dc:description/>
  <dc:language>en-US</dc:language>
  <cp:lastModifiedBy>user02</cp:lastModifiedBy>
  <dcterms:modified xsi:type="dcterms:W3CDTF">2013-01-15T12:05:07Z</dcterms:modified>
  <cp:revision>3</cp:revision>
  <dc:subject/>
  <dc:title>ΚΑΤΑΝΟΜΗ ΤΩΝ ΟΜΑΔΩΝ</dc:title>
</cp:coreProperties>
</file>